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238-8337-447D-BE6C-5859AC2C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C11-679D-477C-828F-8A21E8F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393-7352-4CDA-A214-E65E0B70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500-0A88-4CEE-870A-8EB483C6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B76-7965-4BA6-B076-D53EAEC2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264-5222-4A2F-94D1-97E1AFCF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B95-C6E0-4F6E-A3E4-0202200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CC0-643C-480D-95EC-F6BD215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446-03D3-4682-AC07-2BAAD4D0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B5A-F8AF-4ED5-A8D2-E05FBE1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C5F-39A1-483A-A1BA-262FB00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81B-F2B5-4AF6-8B29-CBF84AA7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6F9-3619-4BDE-91F1-D0F38594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article “Agenda for Hartford in 2011” in no more than 12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the 12 minutes, be able to summarize the main idea of the article in 3 minu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following two questions in no more than 1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hird paragraph that starts “This points to what Hartford…” what do you think the author means by “the city’s social and fiscal problem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oing well in Hartford schools, and what must continue for further improvemen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2:48:55Z</dcterms:created>
  <dc:creator>Administrator</dc:creator>
  <dc:description/>
  <dc:language>en-US</dc:language>
  <cp:lastModifiedBy>Administrator</cp:lastModifiedBy>
  <dcterms:modified xsi:type="dcterms:W3CDTF">2011-01-24T02:49:15Z</dcterms:modified>
  <cp:revision>1</cp:revision>
  <dc:subject/>
  <dc:title>Slide 1</dc:title>
</cp:coreProperties>
</file>